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16B4A-E966-476F-8E89-E06D59F15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54490-7F80-4E1E-94A2-8541C4F63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DB45A-2F7E-41D7-8F9A-EBEE1A77A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CCC58-C815-47F7-9189-DD52694E0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657AB-BD1D-4818-9A2F-F644E63DE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7DC31-6FBD-4A2B-A48F-5E280F422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0EE6D-A504-4F6D-826C-493F630C0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47C4A-0DE2-4DE6-A0A1-4E1195262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209F9-A36B-4783-AAA0-E79977145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3565A-7CBD-4E94-81B0-822772FA9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70C32-F871-4F64-9F9D-31C25E001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4F61D-2271-4692-B4DC-21F2B7A10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DED2A-7BE7-468B-A36F-E313F97035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560" y="105840"/>
            <a:ext cx="84582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cc00"/>
                </a:solidFill>
                <a:latin typeface="Arial"/>
              </a:rPr>
              <a:t>Me llamo _________ Clase 7 IL</a:t>
            </a:r>
            <a:br>
              <a:rPr sz="3600"/>
            </a:br>
            <a:r>
              <a:rPr b="0" lang="en-US" sz="3600" spc="-1" strike="noStrike">
                <a:solidFill>
                  <a:srgbClr val="99cc00"/>
                </a:solidFill>
                <a:latin typeface="Arial"/>
              </a:rPr>
              <a:t>La fecha es el 17 de diciembre del 201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Arial"/>
              </a:rPr>
              <a:t>Propósito # 33: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Qué te due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Arial"/>
              </a:rPr>
              <a:t>Actividad Inici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WORKBOO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mpleta p. 2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762120" y="533520"/>
            <a:ext cx="2361960" cy="1631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581280" y="533520"/>
            <a:ext cx="2362320" cy="15872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6172200" y="457200"/>
            <a:ext cx="2629080" cy="17334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3733920" y="3581280"/>
            <a:ext cx="2124000" cy="21528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6172200" y="3581280"/>
            <a:ext cx="2600280" cy="17622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6"/>
          <a:stretch/>
        </p:blipFill>
        <p:spPr>
          <a:xfrm>
            <a:off x="304920" y="3505320"/>
            <a:ext cx="2361960" cy="20476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 flipH="1">
            <a:off x="685440" y="5105520"/>
            <a:ext cx="15228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057400" y="4876920"/>
            <a:ext cx="30492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09680" y="3962520"/>
            <a:ext cx="228600" cy="1676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219320" y="22096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2133720"/>
            <a:ext cx="6858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600" y="1981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486400" y="16765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5280" y="259092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Arial"/>
              </a:rPr>
              <a:t>el medic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52960" y="297180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Arial"/>
              </a:rPr>
              <a:t>el do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347560" y="2438280"/>
            <a:ext cx="214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Arial"/>
              </a:rPr>
              <a:t>el / la paci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51560" y="2286000"/>
            <a:ext cx="148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Arial"/>
              </a:rPr>
              <a:t>la med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50840" y="26668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Arial"/>
              </a:rPr>
              <a:t>la docto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22120" y="2209680"/>
            <a:ext cx="200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Arial"/>
              </a:rPr>
              <a:t>El consulto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9800" y="579132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Arial"/>
              </a:rPr>
              <a:t>la rece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747440" y="5562720"/>
            <a:ext cx="175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Arial"/>
              </a:rPr>
              <a:t>las pastill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703520" y="5943600"/>
            <a:ext cx="17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Arial"/>
              </a:rPr>
              <a:t>las píldor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584160" y="5715000"/>
            <a:ext cx="224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Arial"/>
              </a:rPr>
              <a:t>el farmacéut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436800" y="5410080"/>
            <a:ext cx="224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Arial"/>
              </a:rPr>
              <a:t>la farmacéu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202840" y="2819520"/>
            <a:ext cx="236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Arial"/>
              </a:rPr>
              <a:t>el / la enfermo/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228600" y="2895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575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ff"/>
                </a:solidFill>
                <a:latin typeface="Arial"/>
              </a:rPr>
              <a:t>La consult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75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ff"/>
                </a:solidFill>
                <a:latin typeface="Arial"/>
              </a:rPr>
              <a:t>La cit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75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ff"/>
                </a:solidFill>
                <a:latin typeface="Arial"/>
              </a:rPr>
              <a:t>Farmaci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75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ff"/>
                </a:solidFill>
                <a:latin typeface="Arial"/>
              </a:rPr>
              <a:t>Caja de…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75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ff"/>
                </a:solidFill>
                <a:latin typeface="Arial"/>
              </a:rPr>
              <a:t>Examina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75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ff"/>
                </a:solidFill>
                <a:latin typeface="Arial"/>
              </a:rPr>
              <a:t>Receta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75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ff"/>
                </a:solidFill>
                <a:latin typeface="Arial"/>
              </a:rPr>
              <a:t>Da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75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ff"/>
                </a:solidFill>
                <a:latin typeface="Arial"/>
              </a:rPr>
              <a:t>Vende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75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ff"/>
                </a:solidFill>
                <a:latin typeface="Arial"/>
              </a:rPr>
              <a:t>Despacha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75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ff"/>
                </a:solidFill>
                <a:latin typeface="Arial"/>
              </a:rPr>
              <a:t>¿Qué te pasa?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75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ff"/>
                </a:solidFill>
                <a:latin typeface="Arial"/>
              </a:rPr>
              <a:t>¡Qué enfermo(a) estoy!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379680" y="0"/>
            <a:ext cx="2259000" cy="28195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5257800" y="12952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H="1" flipV="1">
            <a:off x="3123720" y="1143000"/>
            <a:ext cx="685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4800600" y="609120"/>
            <a:ext cx="13716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3048120" y="1600200"/>
            <a:ext cx="13716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495680" y="198108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99120" y="304920"/>
            <a:ext cx="12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Arial"/>
              </a:rPr>
              <a:t>los oj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086520" y="1066680"/>
            <a:ext cx="1401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Arial"/>
              </a:rPr>
              <a:t>la ore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outer 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718240" y="2209680"/>
            <a:ext cx="116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Arial"/>
              </a:rPr>
              <a:t>la b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832040" y="1600200"/>
            <a:ext cx="116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Arial"/>
              </a:rPr>
              <a:t>la nari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059560" y="762120"/>
            <a:ext cx="1468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Arial"/>
              </a:rPr>
              <a:t>el oí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nner ear</a:t>
            </a:r>
            <a:r>
              <a:rPr b="0" lang="es-ES_tradnl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2742840" y="2362320"/>
            <a:ext cx="12193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18840" y="2209680"/>
            <a:ext cx="129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Arial"/>
              </a:rPr>
              <a:t>el cuel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63960" y="2830680"/>
            <a:ext cx="23126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e consultatio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596600" y="3200400"/>
            <a:ext cx="23616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e appointmen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978560" y="3519360"/>
            <a:ext cx="20354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e pharmac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905120" y="3900600"/>
            <a:ext cx="14317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box of …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834200" y="4205160"/>
            <a:ext cx="23598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(vb.)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o examin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673280" y="4586400"/>
            <a:ext cx="25383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(vb.)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to prescribe</a:t>
            </a: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273680" y="4967280"/>
            <a:ext cx="17899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(vb.)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o giv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578960" y="5334120"/>
            <a:ext cx="16923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(vb.)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o sel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030040" y="5638680"/>
            <a:ext cx="50590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(vb.)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to fulfill, to deal with, to dispatch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567520" y="6019920"/>
            <a:ext cx="21344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what’s wrong?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713040" y="6338880"/>
            <a:ext cx="18860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 am so sick!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457200" y="1569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er p. 53 en voz al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jercicio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. 5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pia y responde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Ejercicio 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. 54 (1-1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A EL MINI-PROYECTO!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33520" y="3429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area # 3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8088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Ejercici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MINI PROYEC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0" y="1066680"/>
            <a:ext cx="91440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ing Ej. 17 p. 51 AS A MODEL, write a letter to ME in Spanish, TYPED &amp; DOUBLE SPACED. Tell me the follow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o you are?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Where you are fro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be yourself (3 characteristics)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How old are you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is your birthday?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Where do you liv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many people are in your family?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Who are the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are they like? (2 characteristics eac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 you live in a private house or apartmen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is your house or apartment lik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do you like to do? (2 activities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Ask me 5 ques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KE SURE IT IS WRITTEN IN A LETTER FORMAT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7T15:04:13Z</dcterms:created>
  <dc:creator>Helen Zumaeta</dc:creator>
  <dc:description/>
  <dc:language>en-US</dc:language>
  <cp:lastModifiedBy>Helen Zumaeta</cp:lastModifiedBy>
  <dcterms:modified xsi:type="dcterms:W3CDTF">2012-12-17T15:04:27Z</dcterms:modified>
  <cp:revision>1</cp:revision>
  <dc:subject/>
  <dc:title>Me llamo _________ Clase 7 IL La fecha es el 17 de diciembre del 2012</dc:title>
</cp:coreProperties>
</file>